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2523-2CEA-4B41-ACAB-BFFD913C4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409F-E0BD-455C-B3F5-8657A15C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38DF-5D58-4E01-93FC-92EB8C598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6607-D600-4D8F-A30C-53B82A9F3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55BD-E319-4619-A9BD-5FA856FD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6090-FEBC-4DD0-B196-9FC0C131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CAE4-99AC-4835-ABBF-80BCD28B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071A-D432-4ECF-AE12-B56286CE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AD74-09F1-48B2-9787-477AD495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FAC1-1D54-4E67-AE4C-AE9A50A4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7476-C487-495D-A82A-E471D0B2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FBF4-943B-476E-9EE0-5F45D067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C268-D08E-445D-8DF1-8521C502EBF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Arial"/>
              </a:rPr>
              <a:t>Dener da Silva Fernan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5280" y="1268280"/>
            <a:ext cx="4619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isciplina: Histó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fessora: Carmen de Souza e Silva Gar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fessora da STE: Maria Sonia Marques de Olivei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3"/>
          <p:cNvPicPr/>
          <p:nvPr/>
        </p:nvPicPr>
        <p:blipFill>
          <a:blip r:embed="rId1"/>
          <a:stretch/>
        </p:blipFill>
        <p:spPr>
          <a:xfrm>
            <a:off x="5292720" y="1484280"/>
            <a:ext cx="3381480" cy="41148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32400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Arial"/>
              </a:rPr>
              <a:t>Escola Prof.ª Floriana Lopes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mosquito_da_DENGUE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333399"/>
                </a:solidFill>
                <a:latin typeface="Arial"/>
              </a:rPr>
              <a:t>NOTÍCIA: Arrast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sta terça-feira, 14 de junho, acontece arrastão contra a dengue no Jardim Florence 2. Os trabalhos incluem retirada de criadouros do mosquito e atividades de educação, informação e mobilização social. Na área do CS Integração, ocorre busca ativa de casos suspeitos. Em toda região noroeste, ainda estão sendo trabalhados pontos de risco e imóveis especiai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3"/>
          <p:cNvPicPr/>
          <p:nvPr/>
        </p:nvPicPr>
        <p:blipFill>
          <a:blip r:embed="rId1"/>
          <a:stretch/>
        </p:blipFill>
        <p:spPr>
          <a:xfrm>
            <a:off x="4716360" y="1628640"/>
            <a:ext cx="38847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Arial"/>
              </a:rPr>
              <a:t>Dengue tipo 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único caso confirmado de Dengue Tipo 4 em Catanduva teve origem em Niterói, no Rio de Janeiro. A afirmação foi feita ontem por Antônio Carlos da Fonte, responsável pela Equipe Municipal de Combate ao Aedes Aegipty (Emcaa). O órgão municipal realizou investigação epidemiológica da origem da contaminação da mulher, moradora da Vila São Luís cuja confirmação do caso foi no dia 15 de abr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mosquito_da_DENGUE[1]"/>
          <p:cNvPicPr/>
          <p:nvPr/>
        </p:nvPicPr>
        <p:blipFill>
          <a:blip r:embed="rId1"/>
          <a:stretch/>
        </p:blipFill>
        <p:spPr>
          <a:xfrm>
            <a:off x="4643280" y="1557360"/>
            <a:ext cx="4032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rbovir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tualmente a dengue é a arbovirose mais comum que atinge o homem, sendo responsável por cerca de 100 milhões de casos por anos em população de riscos de 2,5 a 3 bilhões de seres humanos. A febre hemorrágica da dengue (FHD) e sídrome de choque da dengue (SCD) atingem pelo menos 500 mil pessoas por ano, apresentando taxa de mortalidade de até 10% para pacientes hospitalizados e 30% para pacientes não tra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pidemias da forma hemorrágica da doença tem ocorrido na Ásia, a partir da década de 1950, e no sul do Pacífico, na dos 80. Durante a epidemias que ocorreu na Cuba, em 1981, foi relatado o primeiro de caso de dengue hemorrágica, fora do sudeste da Ásia e do Pacífico e o custo estimado da epidemias foi de US$ 103 milh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5T13:04:53Z</dcterms:created>
  <dc:creator>SEDMS</dc:creator>
  <dc:description/>
  <dc:language>en-US</dc:language>
  <cp:lastModifiedBy>Jorge e Maria</cp:lastModifiedBy>
  <dcterms:modified xsi:type="dcterms:W3CDTF">2011-11-02T22:43:00Z</dcterms:modified>
  <cp:revision>4</cp:revision>
  <dc:subject/>
  <dc:title>Slide 1</dc:title>
</cp:coreProperties>
</file>